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03A-E499-4D44-8EB9-7E90A4C5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2A1-9261-4422-90BB-B8E3F34E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37C-3F4F-4456-A360-A2277EC2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344-2FF9-40A9-AE89-AD68EED1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16F9-A9D1-46A4-B14F-5704FFA2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296D-8047-4DE0-9FC1-2E5EDCFC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AFA3-E587-4773-88AB-4A93B83B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53F9-EA51-45F3-81D6-BCABBB97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B8B2-BE75-40C9-8330-5EF6031F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E52B-6A02-4F2D-A9DA-954EEDD1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A280-D232-49C3-9993-DDC1D4E7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F7D-78B2-4347-AE93-ACCC93B1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F222-9BD2-4F4E-84D3-F2876CA3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65B5-24B8-44CF-B26F-B9144FF8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7DB0-2DA7-4D6E-9E2D-A713CAAA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D34F-F11B-4891-A2D9-B025DA59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EE91-C218-4517-A9BB-D42141C1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647F-D6B7-4F74-8A78-45631293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183-91E0-4E3F-9A9D-0618F230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DB7-1E14-4BBB-86B5-879899C8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E50-C453-4B93-AF2E-4FE1765B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2C0-4315-4DBD-89D8-554FBBE9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194-39C5-4E63-8D40-6C9E9FB7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424-E57E-42AD-9EEC-9CA94DC2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4A8A-C979-4617-A35B-485EB0088823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A626-34AD-4058-9937-20499A10D3A4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意外情况及处理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意外情况及处理措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质量控制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487440" y="1125360"/>
            <a:ext cx="73245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式自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29T03:00:31Z</dcterms:modified>
  <cp:revision>219</cp:revision>
  <dc:subject/>
  <dc:title>PowerPoint 프레젠테이션</dc:title>
</cp:coreProperties>
</file>