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EF2C-66A6-4215-9544-4506CDD1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D083-E677-4D68-A159-E2607039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E26-68C5-48D8-8B94-7A54080B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FD8-A735-4FAE-B854-0507DE30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DB26-D6AF-4B4C-8FE6-5D7D3A9B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FF45-C46E-422A-A26C-FC04FFD8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0A16-80CD-4675-822B-8749670D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1E9E-755E-466E-8DB8-5458C869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0B11-2C8A-447C-94FD-7939906E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C4F7-63E8-4A62-9047-7D5885F1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430D-1BB8-46DF-B287-34E3FBF6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DE97-241C-47DC-B565-A3DD0C11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E849-A279-4DB5-8CFF-83C9498D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8F7D-3F7A-42D3-80D7-6ABCA930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4005-4AC1-4E21-ADEB-B8EDBF93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4BCC-9A2B-4469-B0A6-B55018EC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CC72-60C5-4F8D-B7EB-D177A6DF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015A-0AD4-459B-8A38-C67F7077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D95-DACF-421F-A1B2-E43646E7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507-42F3-4BD4-9EA8-336E7695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94A0-411A-4639-AEF6-248AE419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F036-3DA9-44A2-B8B8-D6780172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086-C200-4BA3-B858-130282FE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6266-8039-4677-AF7E-86096109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coolPT25\nbl14\nbl14_1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coolPT25\nbl14\nbl14_1_2.png"/>
          <p:cNvPicPr/>
          <p:nvPr/>
        </p:nvPicPr>
        <p:blipFill>
          <a:blip r:embed="rId3"/>
          <a:stretch/>
        </p:blipFill>
        <p:spPr>
          <a:xfrm>
            <a:off x="7877160" y="457200"/>
            <a:ext cx="10558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700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5280" y="6019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2464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2E1F-A7CD-4163-B934-3601B12E7F20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coolPT25\nbl14\nbl14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coolPT25\nbl14\nbl14_1_1.png"/>
          <p:cNvPicPr/>
          <p:nvPr/>
        </p:nvPicPr>
        <p:blipFill>
          <a:blip r:embed="rId3"/>
          <a:stretch/>
        </p:blipFill>
        <p:spPr>
          <a:xfrm>
            <a:off x="7174080" y="762120"/>
            <a:ext cx="1861920" cy="170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4E1A-DF2A-40D6-BE94-B5D2BCBD78BF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医疗设备培训</a:t>
            </a:r>
            <a:endParaRPr b="0" lang="en-US" sz="48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5589360"/>
            <a:ext cx="4284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设备名称：                    规格型号：                     生产厂家：</a:t>
            </a: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557360"/>
            <a:ext cx="76341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上传一张设备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2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6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设备的操作使用说明；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七、设备的日常维护和保养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4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八、设备的常见故障及排除方法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九、设备意外情况及处理措施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8" name="标题 1"/>
          <p:cNvSpPr/>
          <p:nvPr/>
        </p:nvSpPr>
        <p:spPr>
          <a:xfrm>
            <a:off x="684360" y="1413000"/>
            <a:ext cx="7848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医疗设备培训主要内容</a:t>
            </a:r>
            <a:endParaRPr b="0" lang="en-US" sz="40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、设备的主要功能及用途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二、工作原理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三、部件组成及功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四、重要参数介绍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五、设备的操作使用说明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六、设备相关耗材介绍及操作使用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七、设备的日常维护和保养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八、设备的常见故障及排除方法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九、设备意外情况及处理措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十、设备质量控制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十、设备质量控制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487440" y="1125360"/>
            <a:ext cx="73245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格式自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设备的主要功能及用途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工作原理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179280" y="1125360"/>
            <a:ext cx="540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标题 1"/>
          <p:cNvSpPr/>
          <p:nvPr/>
        </p:nvSpPr>
        <p:spPr>
          <a:xfrm>
            <a:off x="1619280" y="566100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标题 1"/>
          <p:cNvSpPr/>
          <p:nvPr/>
        </p:nvSpPr>
        <p:spPr>
          <a:xfrm>
            <a:off x="6084720" y="1125360"/>
            <a:ext cx="25196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2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6" name="标题 1"/>
          <p:cNvSpPr/>
          <p:nvPr/>
        </p:nvSpPr>
        <p:spPr>
          <a:xfrm>
            <a:off x="2050920" y="3284640"/>
            <a:ext cx="504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8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陈胜强</cp:lastModifiedBy>
  <dcterms:modified xsi:type="dcterms:W3CDTF">2022-03-29T03:00:31Z</dcterms:modified>
  <cp:revision>219</cp:revision>
  <dc:subject/>
  <dc:title>PowerPoint 프레젠테이션</dc:title>
</cp:coreProperties>
</file>