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DABF-09FD-4E88-9062-F90354C1C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61DE-8388-40CB-B89E-8AC92384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42DF-0A99-4FFA-9CD0-2FFD595F1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E36C-27C5-4D0D-B9FB-DEDCBACDF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ABDE-988F-4BFF-9234-9E0D98FFD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B833-1BED-4A1D-B959-F254B401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7FD2-B471-44DD-AC61-DC07398E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91D0-6A60-4F53-B0AA-437316A6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FCBA3-1C8B-4927-849A-8C7369B1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84AA8-26BF-4A0E-B034-D6FD67FB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09AD9-09D5-4196-87EC-200EC877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BD68-3883-45FB-A269-A3222961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00AAD-E6EC-4A71-9A97-29F70390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365A8-1F79-4DCD-AC28-05FADF91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B5DD-7CED-445A-B4CB-23023B0F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98AB-E233-4B85-BEE8-A9879B711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D95B7-7C97-441F-BF36-9616677E5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AFE5-D733-49A5-B06C-77FD4CDD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9263-989D-47F4-B844-54E91C9E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F405-85C3-4A53-AC71-F9640C5D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117D-9958-4202-B85A-90897409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CF34-2E91-43DA-BCE9-C9C4ACA1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D199-8619-41F3-8AF2-94033F75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2498-0376-4D5D-B72A-E15D406C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:\coolPT25\nbl14\nbl14_1_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E:\coolPT25\nbl14\nbl14_1_2.png"/>
          <p:cNvPicPr/>
          <p:nvPr/>
        </p:nvPicPr>
        <p:blipFill>
          <a:blip r:embed="rId3"/>
          <a:stretch/>
        </p:blipFill>
        <p:spPr>
          <a:xfrm>
            <a:off x="7877160" y="457200"/>
            <a:ext cx="1055880" cy="1038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9ff"/>
                </a:solidFill>
                <a:latin typeface="-봄IIB"/>
              </a:rPr>
              <a:t>Click to edit the title text format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5700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95280" y="6019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2464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봄IIM"/>
                <a:ea typeface="-봄I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AC12-A5EE-40CE-9452-A67949962008}" type="slidenum">
              <a:rPr b="0" lang="en-US" sz="1400" spc="-1" strike="noStrike">
                <a:solidFill>
                  <a:srgbClr val="000000"/>
                </a:solidFill>
                <a:latin typeface="-봄IIM"/>
                <a:ea typeface="-봄I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E:\coolPT25\nbl14\nbl14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E:\coolPT25\nbl14\nbl14_1_1.png"/>
          <p:cNvPicPr/>
          <p:nvPr/>
        </p:nvPicPr>
        <p:blipFill>
          <a:blip r:embed="rId3"/>
          <a:stretch/>
        </p:blipFill>
        <p:spPr>
          <a:xfrm>
            <a:off x="7174080" y="762120"/>
            <a:ext cx="1861920" cy="1708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9ff"/>
                </a:solidFill>
                <a:latin typeface="-봄IIB"/>
              </a:rPr>
              <a:t>Click to edit the title text format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344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4192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봄IIM"/>
                <a:ea typeface="-봄I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0125-1D56-41F5-913D-7CB9269B5DA6}" type="slidenum">
              <a:rPr b="0" lang="en-US" sz="1400" spc="-1" strike="noStrike">
                <a:solidFill>
                  <a:srgbClr val="000000"/>
                </a:solidFill>
                <a:latin typeface="-봄IIM"/>
                <a:ea typeface="-봄I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医疗设备培训</a:t>
            </a:r>
            <a:endParaRPr b="0" lang="en-US" sz="48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859280" y="5589360"/>
            <a:ext cx="4284720" cy="10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设备名称：                    规格型号：                     生产厂家：</a:t>
            </a:r>
            <a:endParaRPr b="0" lang="en-US" sz="2000" spc="-1" strike="noStrike">
              <a:solidFill>
                <a:srgbClr val="000000"/>
              </a:solidFill>
              <a:latin typeface="-봄IIM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250920" y="1557360"/>
            <a:ext cx="76341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上传一张设备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12" name="标题 1"/>
          <p:cNvSpPr/>
          <p:nvPr/>
        </p:nvSpPr>
        <p:spPr>
          <a:xfrm>
            <a:off x="324000" y="1125360"/>
            <a:ext cx="5688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设备显示屏幕上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标题 1"/>
          <p:cNvSpPr/>
          <p:nvPr/>
        </p:nvSpPr>
        <p:spPr>
          <a:xfrm>
            <a:off x="1763640" y="566100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标题 1"/>
          <p:cNvSpPr/>
          <p:nvPr/>
        </p:nvSpPr>
        <p:spPr>
          <a:xfrm>
            <a:off x="6227640" y="1197000"/>
            <a:ext cx="25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的范围、以及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高低的注意事项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16" name="标题 1"/>
          <p:cNvSpPr/>
          <p:nvPr/>
        </p:nvSpPr>
        <p:spPr>
          <a:xfrm>
            <a:off x="324000" y="1125360"/>
            <a:ext cx="5688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设备显示屏幕上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标题 1"/>
          <p:cNvSpPr/>
          <p:nvPr/>
        </p:nvSpPr>
        <p:spPr>
          <a:xfrm>
            <a:off x="1763640" y="566100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标题 1"/>
          <p:cNvSpPr/>
          <p:nvPr/>
        </p:nvSpPr>
        <p:spPr>
          <a:xfrm>
            <a:off x="6227640" y="1197000"/>
            <a:ext cx="25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的范围、以及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高低的注意事项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20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样的格式进行扩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、设备的操作使用说明；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22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介绍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设备相关耗材介绍及操作使用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介绍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设备相关耗材介绍及操作使用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一样的格式进行扩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设备相关耗材介绍及操作使用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七、设备的日常维护和保养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34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设备的日常维护和保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设备的日常维护和保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设备的日常维护和保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八、设备的常见故障及排除方法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36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见故障及排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见故障及排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见故障及排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九、设备意外情况及处理措施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38" name="标题 1"/>
          <p:cNvSpPr/>
          <p:nvPr/>
        </p:nvSpPr>
        <p:spPr>
          <a:xfrm>
            <a:off x="684360" y="1413000"/>
            <a:ext cx="78483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意外情况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处理措施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意外情况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处理措施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意外情况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处理措施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10526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医疗设备培训主要内容</a:t>
            </a:r>
            <a:endParaRPr b="0" lang="en-US" sz="40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、设备的主要功能及用途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二、工作原理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三、部件组成及功能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四、重要参数介绍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五、设备的操作使用说明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六、设备相关耗材介绍及操作使用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七、设备的日常维护和保养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八、设备的常见故障及排除方法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九、设备意外情况及处理措施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十、设备质量控制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十、设备质量控制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40" name="标题 1"/>
          <p:cNvSpPr/>
          <p:nvPr/>
        </p:nvSpPr>
        <p:spPr>
          <a:xfrm>
            <a:off x="487440" y="1125360"/>
            <a:ext cx="73245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质量控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格式自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质量控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设备的主要功能及用途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工作原理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94" name="标题 1"/>
          <p:cNvSpPr/>
          <p:nvPr/>
        </p:nvSpPr>
        <p:spPr>
          <a:xfrm>
            <a:off x="179280" y="1125360"/>
            <a:ext cx="5400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标题 1"/>
          <p:cNvSpPr/>
          <p:nvPr/>
        </p:nvSpPr>
        <p:spPr>
          <a:xfrm>
            <a:off x="1619280" y="566100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标题 1"/>
          <p:cNvSpPr/>
          <p:nvPr/>
        </p:nvSpPr>
        <p:spPr>
          <a:xfrm>
            <a:off x="6084720" y="1125360"/>
            <a:ext cx="25196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98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2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6" name="标题 1"/>
          <p:cNvSpPr/>
          <p:nvPr/>
        </p:nvSpPr>
        <p:spPr>
          <a:xfrm>
            <a:off x="2050920" y="3284640"/>
            <a:ext cx="5042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样的格式进行扩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8" name="标题 1"/>
          <p:cNvSpPr/>
          <p:nvPr/>
        </p:nvSpPr>
        <p:spPr>
          <a:xfrm>
            <a:off x="324000" y="1125360"/>
            <a:ext cx="5688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设备显示屏幕上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标题 1"/>
          <p:cNvSpPr/>
          <p:nvPr/>
        </p:nvSpPr>
        <p:spPr>
          <a:xfrm>
            <a:off x="1763640" y="566100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标题 1"/>
          <p:cNvSpPr/>
          <p:nvPr/>
        </p:nvSpPr>
        <p:spPr>
          <a:xfrm>
            <a:off x="6227640" y="1197000"/>
            <a:ext cx="25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的范围、以及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高低的注意事项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陈胜强</cp:lastModifiedBy>
  <dcterms:modified xsi:type="dcterms:W3CDTF">2022-03-29T03:00:31Z</dcterms:modified>
  <cp:revision>219</cp:revision>
  <dc:subject/>
  <dc:title>PowerPoint 프레젠테이션</dc:title>
</cp:coreProperties>
</file>