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0C12-2675-460F-A50F-A1D5CBB0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67D2-7A4B-4584-9742-305A2A43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A98-6759-46CD-A34E-678B94BB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5780-B925-49F1-9607-6C044904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F493-E2D3-4507-AF8D-EB44E6EE5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03D0-18BA-48DE-ABFD-6C57457A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2072-B5A6-4B3C-A830-FC3FE2A18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15E1-70ED-4866-917F-EBB82491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5672-F893-4EAB-A12C-5FC109F3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EDEA-ACA4-4BDF-87B4-59A81E4D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7531-99CA-4ADB-AAFD-C57887CB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A516-7665-472F-8DCC-E7B65241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ADBA-45EA-48D2-98D5-DE02BB1C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E253-6DE0-4EA9-8D35-FAAF4B67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33A1-54D1-4BE0-A74C-C3FC0D74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6DDF-5A14-41E3-A3C7-81631CD1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9A17-771B-4F98-8ED2-C0C69E2E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FC3-2AD8-42B8-913C-7635770B6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7E8-F77B-4141-BBC6-B7071D12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84E-751A-45D1-90EA-965405F0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37D-A02B-4031-8FF4-1791BF3B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C4F9-4496-4761-9ED5-68EE0555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F36-9B0C-42BE-8573-EE82D5CA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BBD-9E8A-4B97-B8FA-904B2660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BC3C-7294-4586-A6E0-103DBB26AE0F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DCB6-97FA-4C28-AE36-40C877F79AC7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意外情况及处理措施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684360" y="1413000"/>
            <a:ext cx="78483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意外情况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处理措施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意外情况及处理措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800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质量控制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487440" y="1125360"/>
            <a:ext cx="73245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格式自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量控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陈胜强</cp:lastModifiedBy>
  <dcterms:modified xsi:type="dcterms:W3CDTF">2022-03-29T03:00:31Z</dcterms:modified>
  <cp:revision>219</cp:revision>
  <dc:subject/>
  <dc:title>PowerPoint 프레젠테이션</dc:title>
</cp:coreProperties>
</file>