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69FE-2F28-461D-AA20-3FB492F6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3292-0EBC-4DC5-AF16-AFA16FFA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6F7-AB32-4030-8B7E-49D49509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9285-AB11-4423-8BB3-1286DD9F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762D-FC04-4705-805D-976BE911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17FB-3BCC-458E-A523-0CE06328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D03E-E702-452C-B0AF-210E6F3D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03CD-5756-40B8-8D7E-18BA0793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D8D9-C5A0-4C07-8C40-359B262D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7E5C-5300-437A-AE89-3F025D4D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CC43-F274-4971-9B9C-D45643F4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9E77-9AE4-417E-891C-9D08EAD6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C735-9745-4918-9554-831F6976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FBE5-0B14-4AAF-B270-AEDB9520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056B-3BD4-4E4B-9581-A9ED7A90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E806-B82E-42F1-BE9B-BFB811A6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8454-82D8-4E09-816E-508F3A41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446C-0BD7-4688-BD5C-1751BE19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C75A-AF3D-408E-A418-B9B61ED0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CF3A-C571-4B13-8891-3B62CA22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5361-CE2A-433C-8B66-3515BD9E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4BC-E20E-4402-8659-10F70FAA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DF7B-B0DF-44F7-BAA6-263B2FFD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B0C5-44F3-4259-A445-0B902E9B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coolPT25\nbl14\nbl14_1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E:\coolPT25\nbl14\nbl14_1_2.png"/>
          <p:cNvPicPr/>
          <p:nvPr/>
        </p:nvPicPr>
        <p:blipFill>
          <a:blip r:embed="rId3"/>
          <a:stretch/>
        </p:blipFill>
        <p:spPr>
          <a:xfrm>
            <a:off x="7877160" y="457200"/>
            <a:ext cx="1055880" cy="103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5700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95280" y="6019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2464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1488-90AF-4C1B-976D-338AE6988FED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coolPT25\nbl14\nbl14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E:\coolPT25\nbl14\nbl14_1_1.png"/>
          <p:cNvPicPr/>
          <p:nvPr/>
        </p:nvPicPr>
        <p:blipFill>
          <a:blip r:embed="rId3"/>
          <a:stretch/>
        </p:blipFill>
        <p:spPr>
          <a:xfrm>
            <a:off x="7174080" y="762120"/>
            <a:ext cx="1861920" cy="1708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C8F2-0482-4BFB-88B7-7AB14CA37E28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医疗设备培训</a:t>
            </a:r>
            <a:endParaRPr b="0" lang="en-US" sz="48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5589360"/>
            <a:ext cx="428472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设备名称：                    规格型号：                     生产厂家：</a:t>
            </a: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0920" y="1557360"/>
            <a:ext cx="76341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上传一张设备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2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6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0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设备的操作使用说明；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2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七、设备的日常维护和保养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4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八、设备的常见故障及排除方法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九、设备意外情况及处理措施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8" name="标题 1"/>
          <p:cNvSpPr/>
          <p:nvPr/>
        </p:nvSpPr>
        <p:spPr>
          <a:xfrm>
            <a:off x="684360" y="1413000"/>
            <a:ext cx="7848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医疗设备培训主要内容</a:t>
            </a:r>
            <a:endParaRPr b="0" lang="en-US" sz="40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、设备的主要功能及用途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二、工作原理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三、部件组成及功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四、重要参数介绍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五、设备的操作使用说明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六、设备相关耗材介绍及操作使用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七、设备的日常维护和保养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八、设备的常见故障及排除方法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九、设备意外情况及处理措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十、设备质量控制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十、设备质量控制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487440" y="1125360"/>
            <a:ext cx="73245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量控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格式自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量控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设备的主要功能及用途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工作原理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4" name="标题 1"/>
          <p:cNvSpPr/>
          <p:nvPr/>
        </p:nvSpPr>
        <p:spPr>
          <a:xfrm>
            <a:off x="179280" y="1125360"/>
            <a:ext cx="5400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标题 1"/>
          <p:cNvSpPr/>
          <p:nvPr/>
        </p:nvSpPr>
        <p:spPr>
          <a:xfrm>
            <a:off x="1619280" y="566100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标题 1"/>
          <p:cNvSpPr/>
          <p:nvPr/>
        </p:nvSpPr>
        <p:spPr>
          <a:xfrm>
            <a:off x="6084720" y="1125360"/>
            <a:ext cx="25196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8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2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6" name="标题 1"/>
          <p:cNvSpPr/>
          <p:nvPr/>
        </p:nvSpPr>
        <p:spPr>
          <a:xfrm>
            <a:off x="2050920" y="3284640"/>
            <a:ext cx="504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8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陈胜强</cp:lastModifiedBy>
  <dcterms:modified xsi:type="dcterms:W3CDTF">2022-03-29T03:00:31Z</dcterms:modified>
  <cp:revision>219</cp:revision>
  <dc:subject/>
  <dc:title>PowerPoint 프레젠테이션</dc:title>
</cp:coreProperties>
</file>