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BBF-4CFF-4789-A64C-83B52F0F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1BF-CC6B-4B20-AF7B-BB165B00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6E3-D958-4FF7-956A-45712343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5B7F-AA8B-482C-B12C-BA25B992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C89F-218A-4DAA-895B-BFE5D979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193D-81CE-4831-AE33-9ECCBF6C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6C84-49EC-4914-95A7-7E550C63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B7C5-CDD4-400C-A8D4-E42839CF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FAB9-C6E6-4722-B3CB-D2DA8242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8189-6A3F-47CF-BB91-A3907AA4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B861-72CE-49FE-8F02-E3CAFD5E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C78-17E4-4C4C-B882-8BAD612F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6031-00DF-4932-8522-FFDE7D88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D124-E773-4E71-BD69-6C871E9F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E7A9-D233-4378-9E95-EB24E1CC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4496-5DD8-49FC-B2D5-8FA698C0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A342-65B2-44C7-923F-8D08B741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8C0-511B-49F1-8327-44C8E644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1FC-D112-46A3-9B4B-C2427D0D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D7F-2083-4E59-9CEC-8BFF8C5C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1825-85FE-4C8C-B679-C1BA9BE9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7E4-BFE6-4CBC-A03E-F34D3623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B76-307D-44E0-9F39-9A666067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358-AA38-4FB0-B31F-3031C971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CD01-5467-4F01-A4EB-B3490F672C71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C762-7CB6-4277-915F-93007B14B05B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意外情况及处理措施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684360" y="1413000"/>
            <a:ext cx="7848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意外情况及处理措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质量控制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487440" y="1125360"/>
            <a:ext cx="73245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格式自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陈胜强</cp:lastModifiedBy>
  <dcterms:modified xsi:type="dcterms:W3CDTF">2022-03-29T03:00:31Z</dcterms:modified>
  <cp:revision>219</cp:revision>
  <dc:subject/>
  <dc:title>PowerPoint 프레젠테이션</dc:title>
</cp:coreProperties>
</file>