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95CA-2EA9-4446-9782-64F08F5FE9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BE2-A342-4104-B9D2-8E38C7A39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B095-AC1C-427D-8D8D-A18FFB3F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E3BB-7170-400A-A05C-DA4993CD7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6D5F3-433E-426E-A115-C9948ED52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5380E-CF8D-40AF-9168-EEB8E9B3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3BD93-B7E1-4836-99EC-F68589B7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E9647-148E-4B91-A2CC-58F63CCAA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3EDB9-3241-4212-A3F3-90586D91B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924AF-8526-41AF-9DB0-F7EAB7333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2C04A-B4D7-4DF5-BDC2-C0C0F373A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9C9ED-33F8-4470-9BEC-9253CD70B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82E97-70E8-449F-B014-1782D4AF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9F838-E13C-40BE-8846-232373AD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3AA4E-3CA0-429A-B06B-925941843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D309D-0CB3-4C98-875E-470536936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066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5737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EDBB5-1904-4B94-9B23-EA2B837973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59E1-59EC-46B7-885D-CA2A9799A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291-1328-4856-9E19-21B19535A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1C6B0-79C6-4015-B54C-7E7DCCA1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0"/>
            <a:ext cx="77724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5E4B-653E-482F-9968-2C224F9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CB327-C409-4836-838F-7657C47F5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5737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A3B5-6E99-4183-AE80-4EC6E7762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066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5737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DE0FD-D9DD-498D-A312-FA4FD6EA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E:\coolPT25\nbl14\nbl14_1_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E:\coolPT25\nbl14\nbl14_1_2.png"/>
          <p:cNvPicPr/>
          <p:nvPr/>
        </p:nvPicPr>
        <p:blipFill>
          <a:blip r:embed="rId3"/>
          <a:stretch/>
        </p:blipFill>
        <p:spPr>
          <a:xfrm>
            <a:off x="7877160" y="457200"/>
            <a:ext cx="1055880" cy="1038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57000" y="6019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95280" y="6019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24640" y="6019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6ECF6-F359-45B6-94E9-3C8060ACF35A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:\coolPT25\nbl14\nbl14_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612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E:\coolPT25\nbl14\nbl14_1_1.png"/>
          <p:cNvPicPr/>
          <p:nvPr/>
        </p:nvPicPr>
        <p:blipFill>
          <a:blip r:embed="rId3"/>
          <a:stretch/>
        </p:blipFill>
        <p:spPr>
          <a:xfrm>
            <a:off x="7174080" y="762120"/>
            <a:ext cx="1861920" cy="1708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0344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9c9ff"/>
                </a:solidFill>
                <a:latin typeface="-봄IIB"/>
              </a:rPr>
              <a:t>Click to edit the title text format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0663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2" marL="11430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3" marL="16002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4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봄IIM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-봄IIM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0344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65480" y="6248520"/>
            <a:ext cx="2813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41920" y="6248520"/>
            <a:ext cx="1898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봄IIM"/>
                <a:ea typeface="-봄I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D9B75-1FCF-4F10-A0B9-CE8829EB42DD}" type="slidenum">
              <a:rPr b="0" lang="en-US" sz="1400" spc="-1" strike="noStrike">
                <a:solidFill>
                  <a:srgbClr val="000000"/>
                </a:solidFill>
                <a:latin typeface="-봄IIM"/>
                <a:ea typeface="-봄I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黑体"/>
                <a:ea typeface="黑体"/>
              </a:rPr>
              <a:t>医疗设备培训</a:t>
            </a:r>
            <a:endParaRPr b="0" lang="en-US" sz="48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5589360"/>
            <a:ext cx="4284720" cy="10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设备名称：                    规格型号：                     生产厂家：</a:t>
            </a: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-봄IIM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50920" y="1557360"/>
            <a:ext cx="763416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66"/>
                </a:solidFill>
                <a:latin typeface="黑体"/>
                <a:ea typeface="黑体"/>
              </a:rPr>
              <a:t>           </a:t>
            </a:r>
            <a:r>
              <a:rPr b="1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上传一张设备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2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4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16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五、设备的操作使用说明；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22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5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8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介绍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耗材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六、设备相关耗材介绍及操作使用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七、设备的日常维护和保养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4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设备的日常维护和保养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八、设备的常见故障及排除方法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6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常见故障及排除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九、设备的注意事项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38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注意事项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10526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2060"/>
                </a:solidFill>
                <a:latin typeface="黑体"/>
                <a:ea typeface="黑体"/>
              </a:rPr>
              <a:t>医疗设备培训主要内容</a:t>
            </a:r>
            <a:endParaRPr b="0" lang="en-US" sz="40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一、设备的主要功能及用途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二、工作原理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三、部件组成及功能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四、重要参数介绍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五、设备的操作使用说明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六、设备相关耗材介绍及操作使用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七、设备的日常维护和保养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八、设备的常见故障及排除方法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九、设备的注意事项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2060"/>
                </a:solidFill>
                <a:latin typeface="黑体"/>
                <a:ea typeface="黑体"/>
              </a:rPr>
              <a:t>十、设备质量控制；</a:t>
            </a: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-봄IIM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十、设备的质量控制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40" name="标题 1"/>
          <p:cNvSpPr/>
          <p:nvPr/>
        </p:nvSpPr>
        <p:spPr>
          <a:xfrm>
            <a:off x="324000" y="1268280"/>
            <a:ext cx="828036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质控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……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一、设备的主要功能及用途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二、工作原理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4" name="标题 1"/>
          <p:cNvSpPr/>
          <p:nvPr/>
        </p:nvSpPr>
        <p:spPr>
          <a:xfrm>
            <a:off x="179280" y="1125360"/>
            <a:ext cx="5400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标题 1"/>
          <p:cNvSpPr/>
          <p:nvPr/>
        </p:nvSpPr>
        <p:spPr>
          <a:xfrm>
            <a:off x="1619280" y="566100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标题 1"/>
          <p:cNvSpPr/>
          <p:nvPr/>
        </p:nvSpPr>
        <p:spPr>
          <a:xfrm>
            <a:off x="6084720" y="1125360"/>
            <a:ext cx="251964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98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9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2" name="标题 1"/>
          <p:cNvSpPr/>
          <p:nvPr/>
        </p:nvSpPr>
        <p:spPr>
          <a:xfrm>
            <a:off x="468360" y="1125360"/>
            <a:ext cx="482436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标题 1"/>
          <p:cNvSpPr/>
          <p:nvPr/>
        </p:nvSpPr>
        <p:spPr>
          <a:xfrm>
            <a:off x="1763640" y="5950080"/>
            <a:ext cx="24480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标题 1"/>
          <p:cNvSpPr/>
          <p:nvPr/>
        </p:nvSpPr>
        <p:spPr>
          <a:xfrm>
            <a:off x="5867280" y="1125360"/>
            <a:ext cx="2952720" cy="482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功能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1676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三、部件组成及功能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6" name="标题 1"/>
          <p:cNvSpPr/>
          <p:nvPr/>
        </p:nvSpPr>
        <p:spPr>
          <a:xfrm>
            <a:off x="2050920" y="3284640"/>
            <a:ext cx="50421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部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……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可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一样的格式进行扩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2803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四、重要参数介绍：</a:t>
            </a:r>
            <a:endParaRPr b="0" lang="en-US" sz="3200" spc="-1" strike="noStrike">
              <a:solidFill>
                <a:srgbClr val="c9c9ff"/>
              </a:solidFill>
              <a:latin typeface="-봄IIB"/>
            </a:endParaRPr>
          </a:p>
        </p:txBody>
      </p:sp>
      <p:sp>
        <p:nvSpPr>
          <p:cNvPr id="108" name="标题 1"/>
          <p:cNvSpPr/>
          <p:nvPr/>
        </p:nvSpPr>
        <p:spPr>
          <a:xfrm>
            <a:off x="324000" y="1125360"/>
            <a:ext cx="5688000" cy="41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设备显示屏幕上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图片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标题 1"/>
          <p:cNvSpPr/>
          <p:nvPr/>
        </p:nvSpPr>
        <p:spPr>
          <a:xfrm>
            <a:off x="1763640" y="5661000"/>
            <a:ext cx="223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名称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0" name="标题 1"/>
          <p:cNvSpPr/>
          <p:nvPr/>
        </p:nvSpPr>
        <p:spPr>
          <a:xfrm>
            <a:off x="6227640" y="1197000"/>
            <a:ext cx="252108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的范围、以及参数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值高低的注意事项；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谭翠兰</cp:lastModifiedBy>
  <dcterms:modified xsi:type="dcterms:W3CDTF">2018-07-24T10:05:45Z</dcterms:modified>
  <cp:revision>213</cp:revision>
  <dc:subject/>
  <dc:title>PowerPoint 프레젠테이션</dc:title>
</cp:coreProperties>
</file>