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4A6-D5BB-44E4-BFEF-5D2F4377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33D-ED9F-473F-9267-AE8B85A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4DE-F75C-4CBF-86E5-50060455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0DE-1484-430A-A751-DC0E535B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E85-4D51-46F3-A5FC-D0EBE0D8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6715-029E-4BA9-8CD2-5953784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473D-AEC2-4CF7-B58E-01E3DF75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0174-93EC-44B3-A89F-AD5BF851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8DE5-2E90-4E21-9FF5-33B3553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48AB-A2C6-4845-957D-CB4DA5B8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393-68A2-4B08-91F3-3D1D5CE9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864-D595-4B59-9BF7-FA719BDA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B6A8-1E7A-40E6-AD90-97880EA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46F4-1A2F-4BA9-9B7E-4A3BCF6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E075-4637-4970-BA9A-2FC25E2D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2B02-1F07-43FF-8AAE-63C8E051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9CC2-671B-4979-87BE-997958E4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7AA-40A8-4408-8411-BA04C14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494-587A-4366-A90B-7D2E072A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D5C-21C0-44ED-80C0-ED12CB3D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698-C73B-4B71-88B2-6D66CF9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EA9-AD57-457D-AB83-066C1B1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FBB-03FB-4D9E-BAB8-6330121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E42-0982-4C62-94E5-BD01308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3A09-3D26-402F-8BA1-6178AAFC6CBE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B98C-6988-4227-8D81-12BC8D5E9C8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意外情况处理预案及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11T00:45:35Z</dcterms:modified>
  <cp:revision>214</cp:revision>
  <dc:subject/>
  <dc:title>PowerPoint 프레젠테이션</dc:title>
</cp:coreProperties>
</file>