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D6F-A8D5-4786-8C61-CFEA20EB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766-D21A-4006-B853-2F44B97C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E9C-B2CA-4AE6-91F6-B3850EE5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E1E-0002-4307-AC9F-682CB6FC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CE59-6815-4732-A088-E0E3D5BA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81FE-DF8E-46BE-A6F6-E6479438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8E72-BBDB-4AD9-A648-0AFF55AC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1BD1-10D4-44E9-9CF8-DB32C05B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0173-90F3-4334-828A-D8CB6E8A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F3DE-DB66-4163-BF2C-189ADB36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8E50-D2D3-4E6A-8F7B-41F7825D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7E0-73B0-4A13-BEC7-9FF08578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0AB9-D088-420B-A8DF-F4C359CD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84A0-2311-4AD3-8B7F-54ED2B32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0C00-CD20-47A1-96A3-A2A67158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3F8A-4436-4D1B-A390-2362EDBC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7C84-8B42-4CBD-8E3A-DC6F8E4B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023-8021-447F-9B71-B369301D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D05-322F-4818-865A-4F72745B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94E-77B5-4A32-A2F9-02000D74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B5F-B1F1-4A15-A810-8C65B800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1C8-A484-42DE-A3A9-9F3230C6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8EE-7796-42ED-859B-A711F18C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E3D-7977-40B7-8B17-9517606B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C6FD-45A5-4025-B3E5-6D3F076424B9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5B6C-868D-4E36-B98F-67EFF9447D14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的注意事项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的注意事项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的质量控制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谭翠兰</cp:lastModifiedBy>
  <dcterms:modified xsi:type="dcterms:W3CDTF">2018-07-24T10:05:45Z</dcterms:modified>
  <cp:revision>213</cp:revision>
  <dc:subject/>
  <dc:title>PowerPoint 프레젠테이션</dc:title>
</cp:coreProperties>
</file>