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BD9-ACDC-4023-9832-C27C5ACE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B47-38B6-4353-9969-805C6E2D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B90-13E2-4F75-8C3C-84587501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1C0-7F5D-4FA0-B2C9-160F1010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F1B7-3D78-42BF-9C05-FF77BBEA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367C-B792-4482-9B48-42E971FF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4B16-3404-4558-85C2-2DE00F52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4A68-29E1-4107-B788-4041A274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176E-6A19-4DDB-9B2E-2ACE79C7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C4B6-42E8-413C-84CF-90CF5F39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6F64-034E-42FC-9D4D-BC8A5C31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876-2286-4BA8-865C-B0612906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CC29-B419-4A71-BCE1-DE8FF2EA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A6D1-E239-45AE-823F-0BB60116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0F7D-1928-4143-B392-5A880F08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EA5E-B008-4B2D-A8D9-336F5208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1F5B-AE10-4DD4-AA53-285099AF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AC6-8276-49FB-B306-E299316B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0C3E-55FC-4E2B-8330-EF1E990E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6468-41C8-43B2-80FE-0AB842DB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A76-ED7C-4EF1-9418-270AC3D7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1E4-2ABE-4C17-BFF3-1EA0079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054-ACBA-44EE-AA0F-F918399E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8B8-1A9A-4F48-A222-ABE819A4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0BB7-5512-45C6-9DC1-7BFF36188DB9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28C3-4E2C-415A-BEB9-395629DA356A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的注意事项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的注意事项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的质量控制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谭翠兰</cp:lastModifiedBy>
  <dcterms:modified xsi:type="dcterms:W3CDTF">2018-07-24T10:05:45Z</dcterms:modified>
  <cp:revision>213</cp:revision>
  <dc:subject/>
  <dc:title>PowerPoint 프레젠테이션</dc:title>
</cp:coreProperties>
</file>